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372-8258-40BB-839E-7CA28612D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B840-D7E6-40FE-AD41-2426BA8B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381-41C1-4228-BFFC-08A4D85C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3232-191E-46AB-AF5B-7F5EDDAC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05D-B6CE-4492-85F0-D9718041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D7BC-562B-4BEE-9002-43FD1729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67A0-4242-4BC1-A4F2-ACFDCC2D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2ECE-3023-4654-84DC-2C737272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529-94EE-4C61-B80B-75224B12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74D8-4A76-4665-B0C8-720B1AA6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9C07-B154-46B4-9D02-99011452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13B-4499-4810-AB2B-711AC103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6F21-BDAF-4D07-B9FD-476F51653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6019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09680" y="2514600"/>
            <a:ext cx="5207040" cy="3505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242120" y="6248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the requirement to review the flow of personnel actions, AR 600-8-104, DA PAM 600-8 and a completed DA Form 41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149960" y="6208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-5331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the contents of the DA Form 4187 for completeness and accura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Verified that the routing, submission, signature, and action items for the DA Form 4187 are complete and accu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spcBef>
                <a:spcPts val="799"/>
              </a:spcBef>
              <a:buNone/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7200" y="62485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ified the proper filing of the DA Form 4187 and supporting documents or attach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73640" y="62848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B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22:28Z</dcterms:created>
  <dc:creator>ADG</dc:creator>
  <dc:description/>
  <dc:language>en-US</dc:language>
  <cp:lastModifiedBy>Administrator</cp:lastModifiedBy>
  <cp:lastPrinted>1998-10-23T16:58:58Z</cp:lastPrinted>
  <dcterms:modified xsi:type="dcterms:W3CDTF">2005-07-05T20:13:38Z</dcterms:modified>
  <cp:revision>1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B\CCB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